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EEE-8089-43DB-A32A-EFAEFCAF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21E-DDDE-44F4-9A95-C43EE695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612-9D89-4D50-A062-208A4DB1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1D0-63E2-43C7-9DD6-5EBA4509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2E9-02C4-4887-BBD4-6108D1C5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97C-78D9-4CDD-8034-4D714D56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DCB-B20B-4B52-BCA8-1C7FD0DD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973-4898-49F3-B56A-F1082CD0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AD6-C351-4AF5-8573-6F13E3D1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BD4-1A17-451D-BE93-555F42C4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AAE-6E38-43EC-A755-7A9A965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947-A7BC-4CCC-8F15-0CA7CBFE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87F4-594D-4A53-8B74-FB794064B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19160" y="6093000"/>
            <a:ext cx="884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езентацію створено за допомогою комп’ютерної програми  ВГ «Основа» «Електронний конструктор уроку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2843280" y="2313000"/>
            <a:ext cx="567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ПРАВОПИС ГОЛОСНИХ У ЗАКІНЧЕННЯХ ДІЄПРИКМЕТНИ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ПРАВОПИС ГОЛОСНИХ І ПРИГОЛОСНИХ У СУФІКСАХ ДІЄПРИКМЕТНИ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:\Users\Дмитрий\Desktop\книги 23.gif"/>
          <p:cNvPicPr/>
          <p:nvPr/>
        </p:nvPicPr>
        <p:blipFill>
          <a:blip r:embed="rId1"/>
          <a:stretch/>
        </p:blipFill>
        <p:spPr>
          <a:xfrm>
            <a:off x="684360" y="2023920"/>
            <a:ext cx="27144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718720" y="5619600"/>
            <a:ext cx="39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Arial"/>
              </a:rPr>
              <a:t>В. О. Сухомлин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Дмитрий\Desktop\Рис 104-03 Василий Сухомлинский.jpg"/>
          <p:cNvPicPr/>
          <p:nvPr/>
        </p:nvPicPr>
        <p:blipFill>
          <a:blip r:embed="rId1"/>
          <a:stretch/>
        </p:blipFill>
        <p:spPr>
          <a:xfrm>
            <a:off x="1571760" y="812880"/>
            <a:ext cx="62229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с одним вырезанным скругленным углом 3"/>
          <p:cNvSpPr/>
          <p:nvPr/>
        </p:nvSpPr>
        <p:spPr>
          <a:xfrm>
            <a:off x="539640" y="404640"/>
            <a:ext cx="8064720" cy="1224000"/>
          </a:xfrm>
          <a:custGeom>
            <a:avLst/>
            <a:gdLst>
              <a:gd name="textAreaLeft" fmla="*/ 59400 w 8064720"/>
              <a:gd name="textAreaRight" fmla="*/ 7962840 w 8064720"/>
              <a:gd name="textAreaTop" fmla="*/ 59760 h 1224000"/>
              <a:gd name="textAreaBottom" fmla="*/ 1224360 h 1224000"/>
            </a:gdLst>
            <a:ahLst/>
            <a:rect l="textAreaLeft" t="textAreaTop" r="textAreaRight" b="textAreaBottom"/>
            <a:pathLst>
              <a:path w="8064500" h="1223962">
                <a:moveTo>
                  <a:pt x="203998" y="0"/>
                </a:moveTo>
                <a:lnTo>
                  <a:pt x="7860502" y="0"/>
                </a:lnTo>
                <a:lnTo>
                  <a:pt x="8064500" y="203998"/>
                </a:lnTo>
                <a:lnTo>
                  <a:pt x="8064500" y="1223962"/>
                </a:lnTo>
                <a:lnTo>
                  <a:pt x="0" y="1223962"/>
                </a:lnTo>
                <a:lnTo>
                  <a:pt x="0" y="203998"/>
                </a:lnTo>
                <a:lnTo>
                  <a:pt x="0" y="203998"/>
                </a:lnTo>
                <a:arcTo wR="203998" hR="203998" stAng="10800000" swAng="5400000"/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792000" y="601560"/>
            <a:ext cx="75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Прочитайте речення, випишіть дієприкметники, визначте їх вид, рід, час, число, відмі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611280" y="191628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ідхоплена хвилями шлюпка вилетіла в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Тремтячими руками розгорнув Тарас папі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Дбайливо политі й старанно підстрижені квіти красувалися серед в’янучих т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Око знов ваблять блукаючі вог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5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гаяного часу й конем не дожене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C:\Users\Дмитрий\Desktop\тетрадь (2).gif"/>
          <p:cNvPicPr/>
          <p:nvPr/>
        </p:nvPicPr>
        <p:blipFill>
          <a:blip r:embed="rId1"/>
          <a:stretch/>
        </p:blipFill>
        <p:spPr>
          <a:xfrm>
            <a:off x="5076720" y="4365720"/>
            <a:ext cx="27669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539640" y="18590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6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В зів’ялих листочках хто може вгадати красу всю зеленого г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7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Не цвіти ж, мій цвіте новий, нерозвинений цвіте, зов’янь тихо, поки твоє серце не розб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8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Коли весною зацвіте трава в палаючих серпанках, в степ на курган крутий іде старенька зморена жура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9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Струмує теплий дим по коліях розмитих, дощами добрими напоєних дорі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с одним вырезанным скругленным углом 2"/>
          <p:cNvSpPr/>
          <p:nvPr/>
        </p:nvSpPr>
        <p:spPr>
          <a:xfrm>
            <a:off x="539640" y="404640"/>
            <a:ext cx="8064720" cy="1224000"/>
          </a:xfrm>
          <a:custGeom>
            <a:avLst/>
            <a:gdLst>
              <a:gd name="textAreaLeft" fmla="*/ 59400 w 8064720"/>
              <a:gd name="textAreaRight" fmla="*/ 7962840 w 8064720"/>
              <a:gd name="textAreaTop" fmla="*/ 59760 h 1224000"/>
              <a:gd name="textAreaBottom" fmla="*/ 1224360 h 1224000"/>
            </a:gdLst>
            <a:ahLst/>
            <a:rect l="textAreaLeft" t="textAreaTop" r="textAreaRight" b="textAreaBottom"/>
            <a:pathLst>
              <a:path w="8064500" h="1223962">
                <a:moveTo>
                  <a:pt x="203998" y="0"/>
                </a:moveTo>
                <a:lnTo>
                  <a:pt x="7860502" y="0"/>
                </a:lnTo>
                <a:lnTo>
                  <a:pt x="8064500" y="203998"/>
                </a:lnTo>
                <a:lnTo>
                  <a:pt x="8064500" y="1223962"/>
                </a:lnTo>
                <a:lnTo>
                  <a:pt x="0" y="1223962"/>
                </a:lnTo>
                <a:lnTo>
                  <a:pt x="0" y="203998"/>
                </a:lnTo>
                <a:lnTo>
                  <a:pt x="0" y="203998"/>
                </a:lnTo>
                <a:arcTo wR="203998" hR="203998" stAng="10800000" swAng="5400000"/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792000" y="601560"/>
            <a:ext cx="75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Прочитайте речення, випишіть дієприкметники, визначте їх вид, рід, час, число, відмі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Дмитрий\Desktop\тетрадь (2).gif"/>
          <p:cNvPicPr/>
          <p:nvPr/>
        </p:nvPicPr>
        <p:blipFill>
          <a:blip r:embed="rId1"/>
          <a:stretch/>
        </p:blipFill>
        <p:spPr>
          <a:xfrm>
            <a:off x="5651640" y="5084640"/>
            <a:ext cx="2016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Круглая лента лицом вниз 3"/>
          <p:cNvSpPr/>
          <p:nvPr/>
        </p:nvSpPr>
        <p:spPr>
          <a:xfrm>
            <a:off x="1292400" y="525600"/>
            <a:ext cx="6624360" cy="863640"/>
          </a:xfrm>
          <a:custGeom>
            <a:avLst/>
            <a:gdLst>
              <a:gd name="textAreaLeft" fmla="*/ 1299600 w 6624360"/>
              <a:gd name="textAreaRight" fmla="*/ 5324760 w 6624360"/>
              <a:gd name="textAreaTop" fmla="*/ 216000 h 863640"/>
              <a:gd name="textAreaBottom" fmla="*/ 825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772854"/>
                <a:lnTo>
                  <a:pt x="4238" y="20648"/>
                </a:lnTo>
                <a:arcTo wR="21600" hR="20153" stAng="6532103" swAng="-2264206"/>
                <a:lnTo>
                  <a:pt x="17362" y="17948"/>
                </a:lnTo>
                <a:arcTo wR="21600" hR="20153" stAng="4267897" swAng="-77285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43660"/>
                <a:lnTo>
                  <a:pt x="14662" y="5075"/>
                </a:lnTo>
                <a:arcTo wR="21600" hR="20153" stAng="4738704" swAng="1322592"/>
                <a:lnTo>
                  <a:pt x="6938" y="2375"/>
                </a:lnTo>
                <a:arcTo wR="21600" hR="20153" stAng="6061296" swAng="1243660"/>
                <a:lnTo>
                  <a:pt x="2700" y="9329"/>
                </a:lnTo>
                <a:close/>
              </a:path>
              <a:path fill="none" w="21600" h="21600">
                <a:moveTo>
                  <a:pt x="6938" y="5075"/>
                </a:moveTo>
                <a:arcTo wR="21600" hR="20153" stAng="6061296" swAng="470807"/>
                <a:lnTo>
                  <a:pt x="6938" y="2375"/>
                </a:lnTo>
              </a:path>
              <a:path fill="none" w="21600" h="21600">
                <a:moveTo>
                  <a:pt x="14662" y="5075"/>
                </a:moveTo>
                <a:arcTo wR="21600" hR="20153" stAng="4738704" swAng="-470807"/>
                <a:lnTo>
                  <a:pt x="14662" y="2375"/>
                </a:lnTo>
              </a:path>
              <a:path fill="none" w="21600" h="21600">
                <a:moveTo>
                  <a:pt x="4238" y="17948"/>
                </a:moveTo>
                <a:lnTo>
                  <a:pt x="4238" y="4448"/>
                </a:lnTo>
              </a:path>
              <a:path fill="none" w="21600" h="21600">
                <a:moveTo>
                  <a:pt x="17362" y="17948"/>
                </a:moveTo>
                <a:lnTo>
                  <a:pt x="17362" y="4448"/>
                </a:lnTo>
              </a:path>
            </a:pathLst>
          </a:custGeom>
          <a:solidFill>
            <a:srgbClr val="fdeada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3145320" y="83664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«Знайди помил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826920" y="2421000"/>
            <a:ext cx="56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Н. в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роблена зробл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Р. в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робленої зробли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Д. в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роблений зробле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. в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роблену зробл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О. в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робленій зробли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М. в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(на) зробленій (на) зробл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C:\Users\Дмитрий\Desktop\вопрос 2.gif"/>
          <p:cNvPicPr/>
          <p:nvPr/>
        </p:nvPicPr>
        <p:blipFill>
          <a:blip r:embed="rId1"/>
          <a:stretch/>
        </p:blipFill>
        <p:spPr>
          <a:xfrm>
            <a:off x="5292720" y="2133720"/>
            <a:ext cx="30416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755640" y="770040"/>
            <a:ext cx="77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9646"/>
                </a:solidFill>
                <a:latin typeface="Arial"/>
              </a:rPr>
              <a:t>Домашнє завдання (за вибор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Виконайте вправу з підру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Запишіть 3–4 прислів’я з дієприкметниками, виділіть суфікси й закін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Дмитрий\Desktop\book-and-fountain-pen.gif"/>
          <p:cNvPicPr/>
          <p:nvPr/>
        </p:nvPicPr>
        <p:blipFill>
          <a:blip r:embed="rId1"/>
          <a:stretch/>
        </p:blipFill>
        <p:spPr>
          <a:xfrm>
            <a:off x="3564000" y="3090960"/>
            <a:ext cx="39607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бъект 2"/>
          <p:cNvSpPr/>
          <p:nvPr/>
        </p:nvSpPr>
        <p:spPr>
          <a:xfrm>
            <a:off x="328680" y="692280"/>
            <a:ext cx="85280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зентацію створено за допомогою комп’ютерної програми  ВГ «Основа» «Електронний конструктор уроку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© ТОВ «Видавнича група Основа»,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Усі уроки української мови. 7 клас. І семестр / Є. П. Голобородько, К. Ю. Голобородько, О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. Павлик, С. В. Мунтян, І. А. Бондаренко. — Х. : Вид. група «Основа», 2015. — 237, [3] с. —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ерія «Усі уроки»). — ISBN 978-617-00-2470-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Лента лицом вниз 4"/>
          <p:cNvSpPr/>
          <p:nvPr/>
        </p:nvSpPr>
        <p:spPr>
          <a:xfrm>
            <a:off x="684360" y="453960"/>
            <a:ext cx="7343640" cy="679680"/>
          </a:xfrm>
          <a:custGeom>
            <a:avLst/>
            <a:gdLst>
              <a:gd name="textAreaLeft" fmla="*/ 1406880 w 7343640"/>
              <a:gd name="textAreaRight" fmla="*/ 5936760 w 7343640"/>
              <a:gd name="textAreaTop" fmla="*/ 113040 h 679680"/>
              <a:gd name="textAreaBottom" fmla="*/ 680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163" y="0"/>
                </a:lnTo>
                <a:arcTo wR="675" hR="900" stAng="16200000" swAng="5400000"/>
                <a:lnTo>
                  <a:pt x="6838" y="3600"/>
                </a:lnTo>
                <a:lnTo>
                  <a:pt x="14762" y="3600"/>
                </a:lnTo>
                <a:lnTo>
                  <a:pt x="14762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7462" y="18000"/>
                </a:lnTo>
                <a:lnTo>
                  <a:pt x="17462" y="20700"/>
                </a:lnTo>
                <a:arcTo wR="675" hR="900" stAng="0" swAng="5400000"/>
                <a:lnTo>
                  <a:pt x="4813" y="21600"/>
                </a:lnTo>
                <a:arcTo wR="675" hR="900" stAng="5400000" swAng="5400000"/>
                <a:lnTo>
                  <a:pt x="4138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6838" y="900"/>
                </a:moveTo>
                <a:arcTo wR="675" hR="900" stAng="0" swAng="5400000"/>
                <a:lnTo>
                  <a:pt x="4813" y="1800"/>
                </a:lnTo>
                <a:arcTo wR="675" hR="900" stAng="16200000" swAng="-5400000"/>
                <a:arcTo wR="675" hR="900" stAng="10800000" swAng="-5400000"/>
                <a:lnTo>
                  <a:pt x="6838" y="3600"/>
                </a:lnTo>
              </a:path>
              <a:path fill="none" w="21600" h="21600">
                <a:moveTo>
                  <a:pt x="14762" y="900"/>
                </a:moveTo>
                <a:arcTo wR="675" hR="900" stAng="10800000" swAng="-5400000"/>
                <a:lnTo>
                  <a:pt x="16787" y="1800"/>
                </a:lnTo>
                <a:arcTo wR="675" hR="900" stAng="16200000" swAng="5400000"/>
                <a:arcTo wR="675" hR="900" stAng="0" swAng="5400000"/>
                <a:lnTo>
                  <a:pt x="14762" y="3600"/>
                </a:lnTo>
              </a:path>
              <a:path fill="none" w="21600" h="21600">
                <a:moveTo>
                  <a:pt x="4138" y="2700"/>
                </a:moveTo>
                <a:lnTo>
                  <a:pt x="4138" y="18000"/>
                </a:lnTo>
              </a:path>
              <a:path fill="none" w="21600" h="21600">
                <a:moveTo>
                  <a:pt x="17462" y="2700"/>
                </a:moveTo>
                <a:lnTo>
                  <a:pt x="17462" y="18000"/>
                </a:lnTo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2377800" y="62244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Упіймай дієприкмет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611280" y="141300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співати, співучий, співав, співаючий, сп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79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знести, знесений, зносити, зніс, зносив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сміятись, сміх, смішити, сміявшись, сміюч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79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принести, принесений, приніс, ніс, принос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C:\Users\Дмитрий\Desktop\Untitled-1.gif"/>
          <p:cNvPicPr/>
          <p:nvPr/>
        </p:nvPicPr>
        <p:blipFill>
          <a:blip r:embed="rId1"/>
          <a:stretch/>
        </p:blipFill>
        <p:spPr>
          <a:xfrm>
            <a:off x="3995640" y="4065480"/>
            <a:ext cx="29527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с одним вырезанным скругленным углом 3"/>
          <p:cNvSpPr/>
          <p:nvPr/>
        </p:nvSpPr>
        <p:spPr>
          <a:xfrm>
            <a:off x="826920" y="404640"/>
            <a:ext cx="7490160" cy="1224000"/>
          </a:xfrm>
          <a:custGeom>
            <a:avLst/>
            <a:gdLst>
              <a:gd name="textAreaLeft" fmla="*/ 59400 w 7490160"/>
              <a:gd name="textAreaRight" fmla="*/ 7388280 w 7490160"/>
              <a:gd name="textAreaTop" fmla="*/ 59760 h 1224000"/>
              <a:gd name="textAreaBottom" fmla="*/ 1224360 h 1224000"/>
            </a:gdLst>
            <a:ahLst/>
            <a:rect l="textAreaLeft" t="textAreaTop" r="textAreaRight" b="textAreaBottom"/>
            <a:pathLst>
              <a:path w="7489825" h="1223962">
                <a:moveTo>
                  <a:pt x="203998" y="0"/>
                </a:moveTo>
                <a:lnTo>
                  <a:pt x="7285827" y="0"/>
                </a:lnTo>
                <a:lnTo>
                  <a:pt x="7489825" y="203998"/>
                </a:lnTo>
                <a:lnTo>
                  <a:pt x="7489825" y="1223962"/>
                </a:lnTo>
                <a:lnTo>
                  <a:pt x="0" y="1223962"/>
                </a:lnTo>
                <a:lnTo>
                  <a:pt x="0" y="203998"/>
                </a:lnTo>
                <a:lnTo>
                  <a:pt x="0" y="203998"/>
                </a:lnTo>
                <a:arcTo wR="203998" hR="203998" stAng="10800000" swAng="5400000"/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971640" y="6015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апишіть текст, виділіть закінчення дієприкметників, поясніть правопис голос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1258920" y="184464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Оповит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розмаїто-жовтим серпанком осені, садок задумливо дрім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C:\Users\Дмитрий\Desktop\sadosn07.jpg"/>
          <p:cNvPicPr/>
          <p:nvPr/>
        </p:nvPicPr>
        <p:blipFill>
          <a:blip r:embed="rId1"/>
          <a:srcRect l="0" t="0" r="0" b="20879"/>
          <a:stretch/>
        </p:blipFill>
        <p:spPr>
          <a:xfrm>
            <a:off x="1727280" y="2852640"/>
            <a:ext cx="56894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557360" y="1886040"/>
            <a:ext cx="60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Крізь заґратован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маленькі віконечка тихо лився сірий світа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с одним вырезанным скругленным углом 3"/>
          <p:cNvSpPr/>
          <p:nvPr/>
        </p:nvSpPr>
        <p:spPr>
          <a:xfrm>
            <a:off x="826920" y="404640"/>
            <a:ext cx="7490160" cy="1224000"/>
          </a:xfrm>
          <a:custGeom>
            <a:avLst/>
            <a:gdLst>
              <a:gd name="textAreaLeft" fmla="*/ 59400 w 7490160"/>
              <a:gd name="textAreaRight" fmla="*/ 7388280 w 7490160"/>
              <a:gd name="textAreaTop" fmla="*/ 59760 h 1224000"/>
              <a:gd name="textAreaBottom" fmla="*/ 1224360 h 1224000"/>
            </a:gdLst>
            <a:ahLst/>
            <a:rect l="textAreaLeft" t="textAreaTop" r="textAreaRight" b="textAreaBottom"/>
            <a:pathLst>
              <a:path w="7489825" h="1223962">
                <a:moveTo>
                  <a:pt x="203998" y="0"/>
                </a:moveTo>
                <a:lnTo>
                  <a:pt x="7285827" y="0"/>
                </a:lnTo>
                <a:lnTo>
                  <a:pt x="7489825" y="203998"/>
                </a:lnTo>
                <a:lnTo>
                  <a:pt x="7489825" y="1223962"/>
                </a:lnTo>
                <a:lnTo>
                  <a:pt x="0" y="1223962"/>
                </a:lnTo>
                <a:lnTo>
                  <a:pt x="0" y="203998"/>
                </a:lnTo>
                <a:lnTo>
                  <a:pt x="0" y="203998"/>
                </a:lnTo>
                <a:arcTo wR="203998" hR="203998" stAng="10800000" swAng="5400000"/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971640" y="6015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апишіть текст, виділіть закінчення дієприкметників, поясніть правопис голос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Дмитрий\Desktop\1d9bd32205CDGPUAI_155809_978bab81f0.jpg"/>
          <p:cNvPicPr/>
          <p:nvPr/>
        </p:nvPicPr>
        <p:blipFill>
          <a:blip r:embed="rId1"/>
          <a:stretch/>
        </p:blipFill>
        <p:spPr>
          <a:xfrm>
            <a:off x="2219400" y="2924280"/>
            <a:ext cx="47052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211640" y="2548080"/>
            <a:ext cx="428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Коси дівчат заплетен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, кожна у віночку, а сорочки з тонкого полотна так уже вибілен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та вишит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різними узорами, що не надивиш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с одним вырезанным скругленным углом 2"/>
          <p:cNvSpPr/>
          <p:nvPr/>
        </p:nvSpPr>
        <p:spPr>
          <a:xfrm>
            <a:off x="826920" y="404640"/>
            <a:ext cx="7490160" cy="1224000"/>
          </a:xfrm>
          <a:custGeom>
            <a:avLst/>
            <a:gdLst>
              <a:gd name="textAreaLeft" fmla="*/ 59400 w 7490160"/>
              <a:gd name="textAreaRight" fmla="*/ 7388280 w 7490160"/>
              <a:gd name="textAreaTop" fmla="*/ 59760 h 1224000"/>
              <a:gd name="textAreaBottom" fmla="*/ 1224360 h 1224000"/>
            </a:gdLst>
            <a:ahLst/>
            <a:rect l="textAreaLeft" t="textAreaTop" r="textAreaRight" b="textAreaBottom"/>
            <a:pathLst>
              <a:path w="7489825" h="1223962">
                <a:moveTo>
                  <a:pt x="203998" y="0"/>
                </a:moveTo>
                <a:lnTo>
                  <a:pt x="7285827" y="0"/>
                </a:lnTo>
                <a:lnTo>
                  <a:pt x="7489825" y="203998"/>
                </a:lnTo>
                <a:lnTo>
                  <a:pt x="7489825" y="1223962"/>
                </a:lnTo>
                <a:lnTo>
                  <a:pt x="0" y="1223962"/>
                </a:lnTo>
                <a:lnTo>
                  <a:pt x="0" y="203998"/>
                </a:lnTo>
                <a:lnTo>
                  <a:pt x="0" y="203998"/>
                </a:lnTo>
                <a:arcTo wR="203998" hR="203998" stAng="10800000" swAng="5400000"/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971640" y="6015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апишіть текст, виділіть закінчення дієприкметників, поясніть правопис голос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Дмитрий\Desktop\Рис 58-06 Украинская девушка.jpg"/>
          <p:cNvPicPr/>
          <p:nvPr/>
        </p:nvPicPr>
        <p:blipFill>
          <a:blip r:embed="rId1"/>
          <a:stretch/>
        </p:blipFill>
        <p:spPr>
          <a:xfrm>
            <a:off x="611280" y="2133720"/>
            <a:ext cx="31557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079640" y="1844640"/>
            <a:ext cx="69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Сонце зараз було схоже на згасаюч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в осиротілім полі осіннє ба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с одним вырезанным скругленным углом 2"/>
          <p:cNvSpPr/>
          <p:nvPr/>
        </p:nvSpPr>
        <p:spPr>
          <a:xfrm>
            <a:off x="826920" y="404640"/>
            <a:ext cx="7490160" cy="1224000"/>
          </a:xfrm>
          <a:custGeom>
            <a:avLst/>
            <a:gdLst>
              <a:gd name="textAreaLeft" fmla="*/ 59400 w 7490160"/>
              <a:gd name="textAreaRight" fmla="*/ 7388280 w 7490160"/>
              <a:gd name="textAreaTop" fmla="*/ 59760 h 1224000"/>
              <a:gd name="textAreaBottom" fmla="*/ 1224360 h 1224000"/>
            </a:gdLst>
            <a:ahLst/>
            <a:rect l="textAreaLeft" t="textAreaTop" r="textAreaRight" b="textAreaBottom"/>
            <a:pathLst>
              <a:path w="7489825" h="1223962">
                <a:moveTo>
                  <a:pt x="203998" y="0"/>
                </a:moveTo>
                <a:lnTo>
                  <a:pt x="7285827" y="0"/>
                </a:lnTo>
                <a:lnTo>
                  <a:pt x="7489825" y="203998"/>
                </a:lnTo>
                <a:lnTo>
                  <a:pt x="7489825" y="1223962"/>
                </a:lnTo>
                <a:lnTo>
                  <a:pt x="0" y="1223962"/>
                </a:lnTo>
                <a:lnTo>
                  <a:pt x="0" y="203998"/>
                </a:lnTo>
                <a:lnTo>
                  <a:pt x="0" y="203998"/>
                </a:lnTo>
                <a:arcTo wR="203998" hR="203998" stAng="10800000" swAng="5400000"/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971640" y="6015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апишіть текст, виділіть закінчення дієприкметників, поясніть правопис голос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C:\Users\Дмитрий\Desktop\sun6.jpg"/>
          <p:cNvPicPr/>
          <p:nvPr/>
        </p:nvPicPr>
        <p:blipFill>
          <a:blip r:embed="rId1"/>
          <a:stretch/>
        </p:blipFill>
        <p:spPr>
          <a:xfrm>
            <a:off x="1332000" y="2851200"/>
            <a:ext cx="6480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50920" y="1125360"/>
          <a:ext cx="8424720" cy="2683080"/>
        </p:xfrm>
        <a:graphic>
          <a:graphicData uri="http://schemas.openxmlformats.org/drawingml/2006/table">
            <a:tbl>
              <a:tblPr/>
              <a:tblGrid>
                <a:gridCol w="1655640"/>
                <a:gridCol w="5197680"/>
                <a:gridCol w="1571400"/>
              </a:tblGrid>
              <a:tr h="67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уфікс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равил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риклад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-ен-/-н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Пишуться з однією -н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7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-уч-/-юч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Якщо утворені від дієслів І відмін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7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-ач-/-яч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Якщо утворені від дієслів ІІ відмін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1" descr="C:\Users\Дмитрий\Desktop\76968101_large_3914090_0_4e758_afaa08d8_orig.gif"/>
          <p:cNvPicPr/>
          <p:nvPr/>
        </p:nvPicPr>
        <p:blipFill>
          <a:blip r:embed="rId1"/>
          <a:stretch/>
        </p:blipFill>
        <p:spPr>
          <a:xfrm>
            <a:off x="4427640" y="2565360"/>
            <a:ext cx="34574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с одним вырезанным скругленным углом 3"/>
          <p:cNvSpPr/>
          <p:nvPr/>
        </p:nvSpPr>
        <p:spPr>
          <a:xfrm>
            <a:off x="539640" y="404640"/>
            <a:ext cx="8064720" cy="1224000"/>
          </a:xfrm>
          <a:custGeom>
            <a:avLst/>
            <a:gdLst>
              <a:gd name="textAreaLeft" fmla="*/ 59400 w 8064720"/>
              <a:gd name="textAreaRight" fmla="*/ 7962840 w 8064720"/>
              <a:gd name="textAreaTop" fmla="*/ 59760 h 1224000"/>
              <a:gd name="textAreaBottom" fmla="*/ 1224360 h 1224000"/>
            </a:gdLst>
            <a:ahLst/>
            <a:rect l="textAreaLeft" t="textAreaTop" r="textAreaRight" b="textAreaBottom"/>
            <a:pathLst>
              <a:path w="8064500" h="1223962">
                <a:moveTo>
                  <a:pt x="203998" y="0"/>
                </a:moveTo>
                <a:lnTo>
                  <a:pt x="7860502" y="0"/>
                </a:lnTo>
                <a:lnTo>
                  <a:pt x="8064500" y="203998"/>
                </a:lnTo>
                <a:lnTo>
                  <a:pt x="8064500" y="1223962"/>
                </a:lnTo>
                <a:lnTo>
                  <a:pt x="0" y="1223962"/>
                </a:lnTo>
                <a:lnTo>
                  <a:pt x="0" y="203998"/>
                </a:lnTo>
                <a:lnTo>
                  <a:pt x="0" y="203998"/>
                </a:lnTo>
                <a:arcTo wR="203998" hR="203998" stAng="10800000" swAng="5400000"/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55640" y="6015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Спишіть дієприкметники, вставивши пропущені букви. Виділіть суфікси, поясніть їх правоп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127160" y="2260440"/>
            <a:ext cx="546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амороже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ий, сиві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чий, засвіче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ий, чита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ий, збудова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ий, на­поє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ий, випуще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ий, погаше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ий, виїжджу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ий, промеле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ий, пала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чий, сто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чий, завмира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чий, зелені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чий, леж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чий, дриж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..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Users\Дмитрий\Desktop\115458835___kopiya__5_.gif"/>
          <p:cNvPicPr/>
          <p:nvPr/>
        </p:nvPicPr>
        <p:blipFill>
          <a:blip r:embed="rId1"/>
          <a:stretch/>
        </p:blipFill>
        <p:spPr>
          <a:xfrm>
            <a:off x="5742000" y="3357720"/>
            <a:ext cx="216072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C:\Users\Дмитрий\Desktop\546aab60cf09c.jpg"/>
          <p:cNvPicPr/>
          <p:nvPr/>
        </p:nvPicPr>
        <p:blipFill>
          <a:blip r:embed="rId1"/>
          <a:stretch/>
        </p:blipFill>
        <p:spPr>
          <a:xfrm>
            <a:off x="179280" y="1187280"/>
            <a:ext cx="3151440" cy="474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Дмитрий\Desktop\priroda-pole-cvety-maki-zakat-2161.jpg"/>
          <p:cNvPicPr/>
          <p:nvPr/>
        </p:nvPicPr>
        <p:blipFill>
          <a:blip r:embed="rId2"/>
          <a:stretch/>
        </p:blipFill>
        <p:spPr>
          <a:xfrm>
            <a:off x="3112920" y="750960"/>
            <a:ext cx="3154680" cy="474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Дмитрий\Desktop\zhivotnye_zveri_krasivo_super_1680x1050.jpg"/>
          <p:cNvPicPr/>
          <p:nvPr/>
        </p:nvPicPr>
        <p:blipFill>
          <a:blip r:embed="rId3"/>
          <a:stretch/>
        </p:blipFill>
        <p:spPr>
          <a:xfrm>
            <a:off x="5796000" y="900000"/>
            <a:ext cx="3151080" cy="4738680"/>
          </a:xfrm>
          <a:prstGeom prst="rect">
            <a:avLst/>
          </a:prstGeom>
          <a:ln w="0">
            <a:noFill/>
          </a:ln>
        </p:spPr>
      </p:pic>
      <p:sp>
        <p:nvSpPr>
          <p:cNvPr id="73" name="Горизонтальный свиток 2"/>
          <p:cNvSpPr/>
          <p:nvPr/>
        </p:nvSpPr>
        <p:spPr>
          <a:xfrm>
            <a:off x="2050920" y="5219640"/>
            <a:ext cx="4969080" cy="1008000"/>
          </a:xfrm>
          <a:prstGeom prst="horizontalScroll">
            <a:avLst>
              <a:gd name="adj" fmla="val 12500"/>
            </a:avLst>
          </a:prstGeom>
          <a:solidFill>
            <a:srgbClr val="ebf1de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3612240" y="54928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Arial"/>
              </a:rPr>
              <a:t>«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k10-4</cp:lastModifiedBy>
  <dcterms:modified xsi:type="dcterms:W3CDTF">2016-05-11T12:03:51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